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B8E-6D75-44D1-A5DA-E1D9B390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1A3-47DB-4F34-AB23-21BC20A4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A46-3C66-4B41-81E4-75CF99F4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C63-63D1-415F-B593-7312DC11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4F0-8F04-4B22-A2B0-BAC11BFC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3B3-6CED-4938-A297-1E813081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663-2210-4048-AA25-C234396E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CAA-B0F0-46CD-8446-F64DBC77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87F-5E91-46FF-AAB7-835AA889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E32-99F1-4731-8709-30D71047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A34-2B66-4F69-ABE4-B3E0DE4A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E05-F006-4FF0-A42A-055D5B13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69DC-8E2B-406F-A775-DBE8EEAC7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leep, Dreams, and Body Rhyth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ule 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leep Depriv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y We Slee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eep control center in the b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itors changes in light or dark in the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nges levels of hormones in the 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Blair-Broeker_24UN03"/>
          <p:cNvPicPr/>
          <p:nvPr/>
        </p:nvPicPr>
        <p:blipFill>
          <a:blip r:embed="rId1"/>
          <a:stretch/>
        </p:blipFill>
        <p:spPr>
          <a:xfrm>
            <a:off x="2514600" y="365760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lato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rmone that helps regulate daily biological rhy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ed to the sleep-wake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latonin level increases during the night and decreases with exposure to morning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melatonin levels can cause insom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primary reas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rvation: keep us protected from the dangers of the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toration: recuperate from the wear and tear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leep Stages, REM, and Dreaming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tages of Slee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encephalograph (EE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hine that amplifies and records waves of electrical activity that sweep across the brain’s su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des placed on the scalp measure the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Blair-Broeker_24UN04"/>
          <p:cNvPicPr/>
          <p:nvPr/>
        </p:nvPicPr>
        <p:blipFill>
          <a:blip r:embed="rId1"/>
          <a:stretch/>
        </p:blipFill>
        <p:spPr>
          <a:xfrm>
            <a:off x="4952880" y="2027160"/>
            <a:ext cx="39531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encephalograph (EE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des are placed on the person’s scalp to measure the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d as a means to measure the stages of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Blair-Broeker_24UN04"/>
          <p:cNvPicPr/>
          <p:nvPr/>
        </p:nvPicPr>
        <p:blipFill>
          <a:blip r:embed="rId1"/>
          <a:stretch/>
        </p:blipFill>
        <p:spPr>
          <a:xfrm>
            <a:off x="4952880" y="1874880"/>
            <a:ext cx="39531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10335"/>
          <p:cNvPicPr/>
          <p:nvPr/>
        </p:nvPicPr>
        <p:blipFill>
          <a:blip r:embed="rId1"/>
          <a:srcRect l="35002" t="0" r="0" b="0"/>
          <a:stretch/>
        </p:blipFill>
        <p:spPr>
          <a:xfrm>
            <a:off x="3352680" y="1600200"/>
            <a:ext cx="55990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0335"/>
          <p:cNvPicPr/>
          <p:nvPr/>
        </p:nvPicPr>
        <p:blipFill>
          <a:blip r:embed="rId2"/>
          <a:srcRect l="0" t="0" r="65003" b="49240"/>
          <a:stretch/>
        </p:blipFill>
        <p:spPr>
          <a:xfrm>
            <a:off x="152280" y="1600200"/>
            <a:ext cx="320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1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eathing is slow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ain waves become irregul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is easy to wake the person, who will insist they are not aslee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rely lasts longer than 5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ciou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wareness of yourself and your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 of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28" descr="Picture45e"/>
          <p:cNvPicPr/>
          <p:nvPr/>
        </p:nvPicPr>
        <p:blipFill>
          <a:blip r:embed="rId1"/>
          <a:stretch/>
        </p:blipFill>
        <p:spPr>
          <a:xfrm>
            <a:off x="2362320" y="1219320"/>
            <a:ext cx="444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icture45f"/>
          <p:cNvPicPr/>
          <p:nvPr/>
        </p:nvPicPr>
        <p:blipFill>
          <a:blip r:embed="rId1"/>
          <a:stretch/>
        </p:blipFill>
        <p:spPr>
          <a:xfrm>
            <a:off x="2362320" y="1219320"/>
            <a:ext cx="444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2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ain wave cycle slo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ime through stage 2 last about 20 min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Blair-Broeker_24UN01"/>
          <p:cNvPicPr/>
          <p:nvPr/>
        </p:nvPicPr>
        <p:blipFill>
          <a:blip r:embed="rId1"/>
          <a:stretch/>
        </p:blipFill>
        <p:spPr>
          <a:xfrm>
            <a:off x="3733920" y="3200400"/>
            <a:ext cx="48006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icture45g"/>
          <p:cNvPicPr/>
          <p:nvPr/>
        </p:nvPicPr>
        <p:blipFill>
          <a:blip r:embed="rId1"/>
          <a:stretch/>
        </p:blipFill>
        <p:spPr>
          <a:xfrm>
            <a:off x="2362320" y="1219320"/>
            <a:ext cx="4444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 3 and 4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ow wave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ime through stage 4 is about 30 minutes and is where one gets rejuvenate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icture45h"/>
          <p:cNvPicPr/>
          <p:nvPr/>
        </p:nvPicPr>
        <p:blipFill>
          <a:blip r:embed="rId1"/>
          <a:stretch/>
        </p:blipFill>
        <p:spPr>
          <a:xfrm>
            <a:off x="2362320" y="1219320"/>
            <a:ext cx="444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28" descr="Picture45i"/>
          <p:cNvPicPr/>
          <p:nvPr/>
        </p:nvPicPr>
        <p:blipFill>
          <a:blip r:embed="rId1"/>
          <a:stretch/>
        </p:blipFill>
        <p:spPr>
          <a:xfrm>
            <a:off x="2362320" y="1219320"/>
            <a:ext cx="444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leep Stages, REM, and Dreaming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M Slee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REM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ges 1 - 4 considered N-REM (non-REM slee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ody Rhyth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pid eye movement (REM Sleep) as eyes move quickly back and f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vid dreaming occurs in REM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ed “paradoxical sleep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 coined by William D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 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icture45j"/>
          <p:cNvPicPr/>
          <p:nvPr/>
        </p:nvPicPr>
        <p:blipFill>
          <a:blip r:embed="rId1"/>
          <a:stretch/>
        </p:blipFill>
        <p:spPr>
          <a:xfrm>
            <a:off x="2362320" y="1219320"/>
            <a:ext cx="444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doxical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ring REM sleep brain wave patterns are similar to when a person is aw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lse and breathing quick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 sleep is sometimes called paradoxical sleep as one’s physiology is close to that of being awake but the brainstem blocks all muscle m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Night’s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29" descr=""/>
          <p:cNvPicPr/>
          <p:nvPr/>
        </p:nvPicPr>
        <p:blipFill>
          <a:blip r:embed="rId1"/>
          <a:stretch/>
        </p:blipFill>
        <p:spPr>
          <a:xfrm>
            <a:off x="1371600" y="1246320"/>
            <a:ext cx="617220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4/REM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29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5623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eep Changes through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30" descr="Blair-Broeker_fig"/>
          <p:cNvPicPr/>
          <p:nvPr/>
        </p:nvPicPr>
        <p:blipFill>
          <a:blip r:embed="rId1"/>
          <a:stretch/>
        </p:blipFill>
        <p:spPr>
          <a:xfrm>
            <a:off x="685800" y="1371600"/>
            <a:ext cx="80010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leep Stages, REM, and Dreaming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y Do We Dream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groups and identify the many theories about the function of 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ame up with the theo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theories similar in any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y dif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-Processi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eams serve an important memory- related function by sorting and sifting through the day’s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arch suggests REM sleep helps memory stor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ological Function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ural activity during REM sleep provides periodic stimulation of the br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Rhy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odic physiological fluc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affect physiological func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ll into three main categ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rcadian Rhy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ltradian Rhy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radian Rhy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-Synthes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eams are the mind’s attempt to make sense of random neural firings in the brain as one slee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gnitive Development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eams part of the matur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eams reflect our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flection of normal cognitiv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leep Disorders and Sleep Proble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om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urring problems falling asleep or staying a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eeping pills tend to inhibit or suppress REM sleep; worsen the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cohol suppresses REM sleep; also worsens the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ies show most people overestimate how long it took them to get to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eep Ap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leep disorder characterized by temporary cessations of breathing during sleep and consequent momentary reawakening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end to be loud snor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tinuous Positive Airway Pressure mach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28" descr="Blair-Broeker_24UN08"/>
          <p:cNvPicPr/>
          <p:nvPr/>
        </p:nvPicPr>
        <p:blipFill>
          <a:blip r:embed="rId1"/>
          <a:stretch/>
        </p:blipFill>
        <p:spPr>
          <a:xfrm>
            <a:off x="2362320" y="3886200"/>
            <a:ext cx="41907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colep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eep disorder characterized by uncontrollable sleep att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on may lapse directly into REM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rvous system getting aroused tends to trigger the sleep att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nambu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al name for sleepw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s in the deep stages of N-REM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on can walk or talk and is able to 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rely has any memory of the e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Blair-Broeker_24UN09"/>
          <p:cNvPicPr/>
          <p:nvPr/>
        </p:nvPicPr>
        <p:blipFill>
          <a:blip r:embed="rId1"/>
          <a:stretch/>
        </p:blipFill>
        <p:spPr>
          <a:xfrm>
            <a:off x="2743200" y="4038480"/>
            <a:ext cx="37339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ght T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eep disorder characterized by high arousal and appearance of being terr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like nightm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pens during stage 4 sleep; mostly 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hildren seldom remember the ev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leep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uxism – teeth gr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uresis – bed w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oclonus – sudden jerk of a body part occurring during stage 1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one has occasional episodes of myoclon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adian Rhy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ological rhythms that occur approximately every 24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Sleep-wake cycle and  tempera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“biological clock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ltradian Rhy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ological rhythms that occur more than once each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Stages of sleep throughout the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dian Rhy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ological rhythms that occur once a month or once a s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Women’s menstrual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leep and Sleep Defici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eep Deprivation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reases efficiency of immune system func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stress hormone cortis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fety and accident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ibutes to hypertension, impaired concentration, irritability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ke sleep depravation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7:26Z</dcterms:created>
  <dc:creator>Home</dc:creator>
  <dc:description/>
  <dc:language>en-US</dc:language>
  <cp:lastModifiedBy>Meghan Reilly</cp:lastModifiedBy>
  <dcterms:modified xsi:type="dcterms:W3CDTF">2011-10-19T16:05:29Z</dcterms:modified>
  <cp:revision>69</cp:revision>
  <dc:subject/>
  <dc:title>Psychology</dc:title>
</cp:coreProperties>
</file>